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i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4AE99C-CB0E-4FB5-8C5D-0D36F09AF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, folders, CDs of Workshop and accessory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s of Accessory pages from Stu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, Building Global Vision, Stuff CDs, Trip Stuff CDs, Team book, Telford’s books, Exploring World Mission, Operation World, Missions in the Third Millennium (Guthrie), Church booklet, Donna’s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 p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ff f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, folders, CDs of Workshop and accessory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s of Accessory pages from Stu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, Building Global Vision, Stuff CDs, Trip Stuff CDs, Team book, Telford’s books, Exploring World Mission, Operation World, Missions in the Third Millennium (Guthrie), Church booklet, Donna’s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 p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ff f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C5DBC4-48FD-47A0-BB57-C4CCBA575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2880" y="4330440"/>
            <a:ext cx="50482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davidmays.org   web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MC helps churches in missions.  See the partnership fl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(1 per chu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SHIP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ope to make this material into a resource available on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, folders, CDs of Workshop and accessory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s of Accessory pages from Stu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, Building Global Vision, Stuff CDs, Trip Stuff CDs, Team book, Telford’s books, Exploring World Mission, Operation World, Missions in the Third Millennium (Guthrie), Church booklet, Donna’s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 p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ff f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ar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wants (vs. some particular agenda of m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God want done IN THE WORL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art belongs to OUR CHU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God’s will for my life, I must understand God’s W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God’s will for our church’s missions ministry, know God’s W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our Major Inputs for understanding what God wants to accomplish throug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, in general, what we should do, we need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od has told us in the Scripture – Nonnegotiable, Fund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ur church sees as its Purpose - Nonnegot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World needs                        -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hurch - How God has put us together -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ey Factors in selecting priorities or areas of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estions are answered within the framework of the Major Inp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s will further help guide our efforts and keep us moving forward toward the goal vs. muddling around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1968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584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352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1968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584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3520" y="685800"/>
            <a:ext cx="7086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968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1584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2352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91968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1584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520" y="685800"/>
            <a:ext cx="7086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0844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55196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99548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67057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solidFill>
            <a:srgbClr val="33669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Developing a Missions Strategy That Fits Your Chu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3352680"/>
            <a:ext cx="6324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i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"/>
          <p:cNvSpPr/>
          <p:nvPr/>
        </p:nvSpPr>
        <p:spPr>
          <a:xfrm>
            <a:off x="67057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avidmays.org/guide.pdf" TargetMode="External"/><Relationship Id="rId3" Type="http://schemas.openxmlformats.org/officeDocument/2006/relationships/hyperlink" Target="mailto:dmays@TheMissionExchange.org" TargetMode="External"/><Relationship Id="rId4" Type="http://schemas.openxmlformats.org/officeDocument/2006/relationships/hyperlink" Target="http://www.davidmays.org/Consultations.html" TargetMode="External"/><Relationship Id="rId5" Type="http://schemas.openxmlformats.org/officeDocument/2006/relationships/hyperlink" Target="http://www.davidmays.org/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hemissionexchange.org/" TargetMode="External"/><Relationship Id="rId3" Type="http://schemas.openxmlformats.org/officeDocument/2006/relationships/hyperlink" Target="http://www.davidmays.org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34286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Rounded MT Bold"/>
              </a:rPr>
              <a:t>Developing a Missions Strategy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 Rounded MT Bold"/>
              </a:rPr>
              <a:t>That Fits Your Church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400" y="4723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orkshop or Consultation Gui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76212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ew resource tool on CD is available to purch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Content – What goes in it?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imary Inpu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ripture – What is the goal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ssions – What is mission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Your Church’s Purpose – What is your church missio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World – What are the great challenge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se are the foundations for your missions strategy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Content – What goes in it?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ary Inpu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diences – Whom do you seek to reach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istry Tasks – What most needs to be done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lance – How much local?  How much global?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cus – A beacon or a thousand points of light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istory – Do you need gradual or radical change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133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Content – What goes in it?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ary Inputs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ationships – Do you support only those you know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ur Roles – What ministries best fit your congregation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tnerships – Is it important to partner with other group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ticipation – Do your members have to help hands o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ou select which of these Inputs are important to your church and should become part of your strategy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2133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Components of the Strategy CD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ader’s Guide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ticipant Workboo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werPoint Sli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lemental Docu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criptures and missions definit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dgeting and funding factors and grid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urpose, vision, and values samples and resour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mple strateg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rvey form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ategy articles and additional resour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819520" y="48769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5867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1903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 Rounded MT Bold"/>
                <a:ea typeface="Times New Roman"/>
              </a:rPr>
              <a:t>God wants your missions ministry to be effective.  He will gladly provide direction as you seek hi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90920" y="2895480"/>
            <a:ext cx="365760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More Inform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urchase the Strategy C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nd $35 to David Mays, 7589 Burns Drive, Brownsburg, IN 46112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e the Leader’s Guide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Arial Narrow"/>
                <a:hlinkClick r:id="rId2"/>
              </a:rPr>
              <a:t>www.davidmays.org/guide.pd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edule a workshop or consul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mail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Arial Narrow"/>
                <a:hlinkClick r:id="rId3"/>
              </a:rPr>
              <a:t>dmays@TheMissionExchange.or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ll 317-852-0348 (h/o)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sts: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Arial Narrow"/>
                <a:hlinkClick r:id="rId4"/>
              </a:rPr>
              <a:t>http://www.davidmays.org/Consultations.html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missions resources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Arial Narrow"/>
                <a:hlinkClick r:id="rId5"/>
              </a:rPr>
              <a:t>www.davidmays.or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knowledgement: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workshop format and key facto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ere adapted from Blake McDaniel, ACM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David May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6934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vid Mays is Director of Learning Initiatives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ission Exchange.  The Mission Exchange empowers the global missions community through training and partnerships.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 Narrow"/>
                <a:hlinkClick r:id="rId2"/>
              </a:rPr>
              <a:t>www.TheMissionExchange.or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istry: Training, resources, and networking in world evangelis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ream: A movement of churches centered on The Great Commis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 Narrow"/>
                <a:hlinkClick r:id="rId3"/>
              </a:rPr>
              <a:t>www.davidmays.org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80880" y="990720"/>
            <a:ext cx="10479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819520" y="48769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5867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M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82844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 Rounded MT Bold"/>
                <a:ea typeface="Times New Roman"/>
              </a:rPr>
              <a:t>Is your missions ministry global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 Rounded MT Bold"/>
                <a:ea typeface="Times New Roman"/>
              </a:rPr>
              <a:t>Or just all over the ma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971800" y="3048120"/>
            <a:ext cx="365760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Every church needs a missions strateg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205740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resource will guide you through a process to 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iberate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ll-reasoned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oal-focused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urch-specific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ripture-based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od-honoring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ssions strategy for your church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This resource may be useful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church mobilizer or consulta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pastor, missions pastor, or missions chai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ad a workshop for multiple chur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ent the process to one chur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uide one church through the process over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2057400"/>
            <a:ext cx="7086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 describes how you will get somew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strategy helps you reach a destination or a goal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re does God want you to go?  That i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does God want to accomplish in the world through our chu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2895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The Key Question is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29528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Your strategy is your roadm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3520" y="15235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Developing a strategy is straightforward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But it’s not easy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et the right people together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a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o your research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lidify your foundation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arify what God desires for your church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gree on your prioriti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t goal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egin to work toward the goal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This resource may be useful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church mobilizer or consulta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pastor, missions pastor, or missions chai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ad a workshop for multiple chur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ent the process to one chur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uide one church through the process over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Develop Your Missions Strategy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 it on your own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the “Strategy CD.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tilize an outside consultant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Strategy Development Components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resource addresses three major pieces of a strategy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How do we develop it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What goes in it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How do we follow it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5T13:14:53Z</dcterms:created>
  <dc:creator> </dc:creator>
  <dc:description/>
  <cp:keywords/>
  <dc:language>en-US</dc:language>
  <cp:lastModifiedBy> </cp:lastModifiedBy>
  <dcterms:modified xsi:type="dcterms:W3CDTF">2009-12-11T16:36:43Z</dcterms:modified>
  <cp:revision>499</cp:revision>
  <dc:subject/>
  <dc:title>Developing a Missions Strate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381033</vt:lpwstr>
  </property>
</Properties>
</file>